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AA0C47-23CB-438F-B726-88B68C7AF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4E7A10-ACB1-4548-9464-330AFFB41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9B102-7525-4160-964D-26965E956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1AF64-A4DD-46CD-BD95-A22949AEC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F5268-616B-42B6-9F08-74759E4B2C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BF41A-F038-4242-B017-8DA97B999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2C321-E4A8-4435-9797-617D899737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2E5D6-48D9-4A28-823C-2DEA4B311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42E2E-47A4-4743-B613-BCD3D87BD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E5733-C181-4DEC-8602-B798B9517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9D0CB-89B8-4F1E-8DDD-2D214B6D3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973B28-5BFA-45C1-9C29-EFFF274D31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FB3A-32D7-4105-B6B9-A42F42AE89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por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Shanmuk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Int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According to my other mates ,we were supposed to make a model for distance and direction.We chose fooball feild and chose 3 figure bearing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Model</a:t>
            </a:r>
            <a:endParaRPr b="0" lang="en-US" sz="4400" spc="-1" strike="noStrike">
              <a:solidFill>
                <a:srgbClr val="000000"/>
              </a:solidFill>
              <a:latin typeface="Arial"/>
            </a:endParaRPr>
          </a:p>
        </p:txBody>
      </p:sp>
      <p:pic>
        <p:nvPicPr>
          <p:cNvPr id="46" name="" descr="DSC03791.JPG"/>
          <p:cNvPicPr/>
          <p:nvPr/>
        </p:nvPicPr>
        <p:blipFill>
          <a:blip r:embed="rId1"/>
          <a:stretch/>
        </p:blipFill>
        <p:spPr>
          <a:xfrm>
            <a:off x="2057400" y="1219320"/>
            <a:ext cx="579132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00"/>
                </a:solidFill>
                <a:latin typeface="Arial"/>
              </a:rPr>
              <a:t>Reflection</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00"/>
                </a:solidFill>
                <a:latin typeface="Arial"/>
              </a:rPr>
              <a:t>It was not a very good expierence since we could co-ordinate with our teamates. We could not present because of my absense,the other teammates just decided some random stuff.I did not know about it till Monday when our model was almost made.This was unscaled and i am very dissapointed with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bc</cp:lastModifiedBy>
  <dcterms:modified xsi:type="dcterms:W3CDTF">2010-05-10T12:01:26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